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worth2.wav" ContentType="audio/x-wav"/>
  <Override PartName="/ppt/media/wind.wav" ContentType="audio/x-wav"/>
  <Override PartName="/ppt/media/track3a.wav" ContentType="audio/x-wav"/>
  <Override PartName="/ppt/media/image14.jpeg" ContentType="image/jpeg"/>
  <Override PartName="/ppt/media/image6.jpeg" ContentType="image/jpeg"/>
  <Override PartName="/ppt/media/image2.png" ContentType="image/png"/>
  <Override PartName="/ppt/media/image25.jpeg" ContentType="image/jpeg"/>
  <Override PartName="/ppt/media/image4.jpeg" ContentType="image/jpeg"/>
  <Override PartName="/ppt/media/blkmagic1.wav" ContentType="audio/x-wav"/>
  <Override PartName="/ppt/media/image5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23.png" ContentType="image/png"/>
  <Override PartName="/ppt/media/image13.jpeg" ContentType="image/jpeg"/>
  <Override PartName="/ppt/media/image24.jpeg" ContentType="image/jpeg"/>
  <Override PartName="/ppt/media/track1_cut.wav" ContentType="audio/x-wav"/>
  <Override PartName="/ppt/media/image9.jpeg" ContentType="image/jpeg"/>
  <Override PartName="/ppt/media/DANCIN.WAV" ContentType="audio/x-wav"/>
  <Override PartName="/ppt/media/image8.jpeg" ContentType="image/jpeg"/>
  <Override PartName="/ppt/media/image10.jpeg" ContentType="image/jpeg"/>
  <Override PartName="/ppt/media/image18.jpeg" ContentType="image/jpeg"/>
  <Override PartName="/ppt/media/WILDTHNG.WAV" ContentType="audio/x-wav"/>
  <Override PartName="/ppt/media/image3.jpeg" ContentType="image/jpeg"/>
  <Override PartName="/ppt/media/track2aa.wav" ContentType="audio/x-wav"/>
  <Override PartName="/ppt/media/image11.jpeg" ContentType="image/jpeg"/>
  <Override PartName="/ppt/media/Peoplect.wav" ContentType="audio/x-wav"/>
  <Override PartName="/ppt/media/image12.jpeg" ContentType="image/jpeg"/>
  <Override PartName="/ppt/media/respect.wav" ContentType="audio/x-wav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5EA3-B568-4CA0-988B-2FD05495E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7F48-8DA4-4CDB-BAA3-75A792527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A3E-D3FF-4A44-B6B3-6A5F2E4F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498-253C-4845-BFAB-7FEF98E5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53E-7DD5-44DE-9B55-45CB6AB6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C6F-178E-4B6C-9445-E08248B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F5DE-5755-49E7-85F4-3AD39938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9F30-98BC-4BD4-975C-A50A5667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C29B-B3E6-45F7-970B-1F643789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9DBD-465C-4F3A-9E82-91DED3B5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F4D1-1A07-4FCA-8356-7B085768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416B-6E5E-41FA-AE3D-90CD5547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D0A5-9406-472C-88F2-9CB36A1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958-2E33-4D1D-ACD8-25D7A66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909D-C531-44B1-B8F6-CC3E3C17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FE85-ADF5-4780-AFF9-095C3E08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4FA0-A14E-44E7-BE14-E171C445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6C73-1A2B-4467-8310-88FE9CC9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5165-FDE6-45CD-90D7-B50CBF95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21F8-4689-4A6D-A31B-6F8A53C5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A791-1DFD-4306-AF4A-1ED31CF6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6873-4306-4310-82E2-2B93D100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B01A-F27E-4378-8DE6-C65A22A2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98B04-E8F4-44E0-B61D-D160F54E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42D-5C80-44BE-AA73-BFB5FAEE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601C-3F75-4455-A241-2AE288CF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878F-6196-4B20-9415-ACE32A7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43BA-6E41-408B-BC1F-94FAF5E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F449-C7C1-4DC2-83F8-8F995659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353D-A41A-48A8-87B0-20AF94FC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B4FF-ADB8-4144-82A0-5837C328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AE20-B190-4587-A45C-921ED17D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95B5-6F62-4CDC-9219-73559C4A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DF770-F0FC-4B3E-B8E8-14E642A1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9B1FC-828F-41A1-9998-7A5D3409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AF2-5A71-4DD5-B197-8DC1377D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5706-11D4-44E4-BCD3-0CB0C8A6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4D8E-0799-41C7-B99E-C3DD9D7B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21DC-DF05-4A03-8EED-E259536E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1FCF-2689-4126-BD99-B3B4EE2B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913B3-1A5C-4AD5-89B0-24A6E4DD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75F5A-1F7D-4CCD-8518-DA09D19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B7DB-161D-4D87-B970-3CEF6082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B390-9341-49B7-96A9-6ACFF3FA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DE65B-13EF-4097-B601-B7F3E49D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4E19-F48B-4BE9-80D1-D4A02A34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F8E-623B-4D1B-87A6-9ECEFF4F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9BA8-9BDD-400A-8AF2-EF2D314B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C37BC-3AFC-4492-BED1-C2E0D4C6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F522-7AAF-40B3-AF34-C1A42345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6BC78-7388-4F1E-9E74-BCD136E7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4359D-2A17-48C7-987D-AF100D14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4C594-3464-4777-A624-D7B7A00D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F021D-FC95-4377-8859-C07165E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162C0-781C-4C5C-9CE1-F04E4E94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ADC67-53E7-4B0C-84F7-F9167BCD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9577-AA39-485F-B8FC-5E84A776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E8B-00D5-4D5C-B2FC-BB74CD39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8DA6-149C-4CF7-BCA2-B8750096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F5E7A-7A72-4189-841B-66D86570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FCCE-F72A-4AC6-B136-744A18C3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9F7D9-CF7B-4BD2-AC11-0387352A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ADB8-5662-4B98-8C20-B808741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1B4B-5DA4-40EC-95F5-C4721194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5C9FA-E5A7-44AA-BC5A-87E067D1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2069C-4892-40B3-AB06-59CB0ECD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6D01F-265D-4DC8-924F-CFA7F6FE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1325E-8D7B-4980-BB8C-81265629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C72-A557-4B19-A34D-E5CFA2C5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CA9B7-590B-4915-AD62-4E145673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0E5C-4B6F-4066-976E-6F8473BD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5C527-6425-4262-B8D5-3F3B9242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EE234-3285-4252-B63A-0531C8E2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B5AA9-CBA4-49E1-9457-C6DBBD88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60FB4-ACE7-46CD-B9C2-1189BA5A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48D8A-DF8F-4E6D-B460-94EEAAE3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508F7-B34D-4D9A-9293-8579C4A4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BD20F-DE74-4ACE-8534-B1770478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F0F71-10AE-4947-8226-623F5D6E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077-6502-46AE-81EB-856022A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53063-AC49-42BC-B197-666D324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D2AAA-C53A-4ED1-B3CF-24A6AA4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4483A-3ED1-4511-9A56-7B7F2DF1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6656A-F80A-4DCC-A957-A034CD19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D7893-EE10-45E4-B6C5-57730A53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006-32AC-4DB7-BD58-E3046F5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FAB-14EC-4779-A427-C61C088C901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709C-F0D6-4C1F-8D38-9305456A9F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FF23-D72F-45A1-9086-250291C2AB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8C6D-C88B-4E62-8747-3BC9707E80E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9BB2-DF19-4FC7-8CE0-787CF9FE49B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E377-D146-41F0-9BF8-63CFDAD3D6F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BB00-456B-4CBE-8F45-07CE7DA7226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rack2aa.wav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rack3a.wav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19.jpeg"/><Relationship Id="rId6" Type="http://schemas.openxmlformats.org/officeDocument/2006/relationships/image" Target="../media/image17.jpeg"/><Relationship Id="rId7" Type="http://schemas.openxmlformats.org/officeDocument/2006/relationships/image" Target="../media/image20.jpeg"/><Relationship Id="rId8" Type="http://schemas.openxmlformats.org/officeDocument/2006/relationships/image" Target="../media/image17.jpeg"/><Relationship Id="rId9" Type="http://schemas.openxmlformats.org/officeDocument/2006/relationships/image" Target="../media/image21.jpeg"/><Relationship Id="rId10" Type="http://schemas.openxmlformats.org/officeDocument/2006/relationships/image" Target="../media/image17.jpeg"/><Relationship Id="rId11" Type="http://schemas.openxmlformats.org/officeDocument/2006/relationships/image" Target="../media/image22.jpeg"/><Relationship Id="rId12" Type="http://schemas.openxmlformats.org/officeDocument/2006/relationships/image" Target="../media/image17.jpeg"/><Relationship Id="rId13" Type="http://schemas.openxmlformats.org/officeDocument/2006/relationships/image" Target="../media/image23.png"/><Relationship Id="rId14" Type="http://schemas.openxmlformats.org/officeDocument/2006/relationships/image" Target="../media/image17.jpeg"/><Relationship Id="rId15" Type="http://schemas.openxmlformats.org/officeDocument/2006/relationships/image" Target="../media/image24.jpeg"/><Relationship Id="rId16" Type="http://schemas.openxmlformats.org/officeDocument/2006/relationships/image" Target="../media/image17.jpeg"/><Relationship Id="rId17" Type="http://schemas.openxmlformats.org/officeDocument/2006/relationships/image" Target="../media/image25.jpeg"/><Relationship Id="rId18" Type="http://schemas.openxmlformats.org/officeDocument/2006/relationships/image" Target="../media/image17.jpeg"/><Relationship Id="rId19" Type="http://schemas.openxmlformats.org/officeDocument/2006/relationships/image" Target="../media/image3.jpeg"/><Relationship Id="rId20" Type="http://schemas.openxmlformats.org/officeDocument/2006/relationships/image" Target="../media/image2.png"/><Relationship Id="rId21" Type="http://schemas.openxmlformats.org/officeDocument/2006/relationships/hyperlink" Target="http://www.shawsheen.tec.ma.us/crucible/mpeg2.htm" TargetMode="External"/><Relationship Id="rId22" Type="http://schemas.openxmlformats.org/officeDocument/2006/relationships/audio" Target="../media/worth2.wav"/><Relationship Id="rId2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track1_cut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rack3a.wav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blkmagic1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audio" Target="../media/Peoplect.wav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WILDTHNG.WAV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ANCIN.WAV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respect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-1328040" y="304920"/>
            <a:ext cx="121287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In 1953, legendary writer Arthur M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depicted a story based on actual fac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facts which remain horrifying even to t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day, despite being based on events whi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ook place over 300 years ago.The story i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errifying depiction of how the accusation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a group of children stirred up such fear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heir small community that it le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persecution and hangings. But, what mak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he story so touching even till this day is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it applies to all “witch”hunts; yes, wi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hunts taking place every day</a:t>
            </a:r>
            <a:r>
              <a:rPr b="0" lang="en-US" sz="3600" spc="-1" strike="noStrike">
                <a:solidFill>
                  <a:srgbClr val="ff0000"/>
                </a:solidFill>
                <a:latin typeface="Bell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81960" y="1219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rack2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-1747440" y="609480"/>
            <a:ext cx="1261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But, what really makes The Crucible so spe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even to this day, is that the story applies to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events that we witness right before our own e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Yes, we have allowed ‘witch hunts’ to conti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ake place, proving that we have yet to correc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mistakes that were made over 300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rack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2750040" y="228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In our da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3" descr="C:\crucible\new\hitler.jpg"/>
          <p:cNvPicPr/>
          <p:nvPr/>
        </p:nvPicPr>
        <p:blipFill>
          <a:blip r:embed="rId1"/>
          <a:stretch/>
        </p:blipFill>
        <p:spPr>
          <a:xfrm>
            <a:off x="1905120" y="990720"/>
            <a:ext cx="5410080" cy="48006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crucible\today\black2.jpg"/>
          <p:cNvPicPr/>
          <p:nvPr/>
        </p:nvPicPr>
        <p:blipFill>
          <a:blip r:embed="rId2"/>
          <a:stretch/>
        </p:blipFill>
        <p:spPr>
          <a:xfrm>
            <a:off x="1447920" y="914400"/>
            <a:ext cx="6019560" cy="4952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crucible\new\rosa.jpg"/>
          <p:cNvPicPr/>
          <p:nvPr/>
        </p:nvPicPr>
        <p:blipFill>
          <a:blip r:embed="rId3"/>
          <a:stretch/>
        </p:blipFill>
        <p:spPr>
          <a:xfrm>
            <a:off x="1295280" y="923760"/>
            <a:ext cx="6324840" cy="5162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C:\crucible\new\black2.jpg"/>
          <p:cNvPicPr/>
          <p:nvPr/>
        </p:nvPicPr>
        <p:blipFill>
          <a:blip r:embed="rId4"/>
          <a:stretch/>
        </p:blipFill>
        <p:spPr>
          <a:xfrm>
            <a:off x="1143000" y="838080"/>
            <a:ext cx="6781680" cy="5257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C:\crucible\new\castro.jpg"/>
          <p:cNvPicPr/>
          <p:nvPr/>
        </p:nvPicPr>
        <p:blipFill>
          <a:blip r:embed="rId5"/>
          <a:stretch/>
        </p:blipFill>
        <p:spPr>
          <a:xfrm>
            <a:off x="1219320" y="990720"/>
            <a:ext cx="6476760" cy="510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C:\crucible\new\black2.jpg"/>
          <p:cNvPicPr/>
          <p:nvPr/>
        </p:nvPicPr>
        <p:blipFill>
          <a:blip r:embed="rId6"/>
          <a:stretch/>
        </p:blipFill>
        <p:spPr>
          <a:xfrm>
            <a:off x="990720" y="838080"/>
            <a:ext cx="6933960" cy="5410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:\crucible\new\king.jpg"/>
          <p:cNvPicPr/>
          <p:nvPr/>
        </p:nvPicPr>
        <p:blipFill>
          <a:blip r:embed="rId7"/>
          <a:stretch/>
        </p:blipFill>
        <p:spPr>
          <a:xfrm>
            <a:off x="1219320" y="1274760"/>
            <a:ext cx="6705360" cy="4308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C:\crucible\new\black2.jpg"/>
          <p:cNvPicPr/>
          <p:nvPr/>
        </p:nvPicPr>
        <p:blipFill>
          <a:blip r:embed="rId8"/>
          <a:stretch/>
        </p:blipFill>
        <p:spPr>
          <a:xfrm>
            <a:off x="1066680" y="1143000"/>
            <a:ext cx="6934320" cy="5349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C:\crucible\new\tiannemen.jpg"/>
          <p:cNvPicPr/>
          <p:nvPr/>
        </p:nvPicPr>
        <p:blipFill>
          <a:blip r:embed="rId9"/>
          <a:stretch/>
        </p:blipFill>
        <p:spPr>
          <a:xfrm>
            <a:off x="1295280" y="1127160"/>
            <a:ext cx="6629400" cy="4657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C:\crucible\new\black2.jpg"/>
          <p:cNvPicPr/>
          <p:nvPr/>
        </p:nvPicPr>
        <p:blipFill>
          <a:blip r:embed="rId10"/>
          <a:stretch/>
        </p:blipFill>
        <p:spPr>
          <a:xfrm>
            <a:off x="1066680" y="990720"/>
            <a:ext cx="7086600" cy="5059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C:\crucible\new\demo.jpg"/>
          <p:cNvPicPr/>
          <p:nvPr/>
        </p:nvPicPr>
        <p:blipFill>
          <a:blip r:embed="rId11"/>
          <a:stretch/>
        </p:blipFill>
        <p:spPr>
          <a:xfrm>
            <a:off x="685800" y="1208160"/>
            <a:ext cx="7696080" cy="4735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C:\crucible\new\black2.jpg"/>
          <p:cNvPicPr/>
          <p:nvPr/>
        </p:nvPicPr>
        <p:blipFill>
          <a:blip r:embed="rId12"/>
          <a:stretch/>
        </p:blipFill>
        <p:spPr>
          <a:xfrm>
            <a:off x="609480" y="1066680"/>
            <a:ext cx="8001000" cy="5791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C:\crucible\today\exec.gif"/>
          <p:cNvPicPr/>
          <p:nvPr/>
        </p:nvPicPr>
        <p:blipFill>
          <a:blip r:embed="rId13"/>
          <a:stretch/>
        </p:blipFill>
        <p:spPr>
          <a:xfrm>
            <a:off x="762120" y="1141560"/>
            <a:ext cx="7772400" cy="4667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C:\crucible\today\black2.jpg"/>
          <p:cNvPicPr/>
          <p:nvPr/>
        </p:nvPicPr>
        <p:blipFill>
          <a:blip r:embed="rId14"/>
          <a:stretch/>
        </p:blipFill>
        <p:spPr>
          <a:xfrm>
            <a:off x="685800" y="990720"/>
            <a:ext cx="8001000" cy="5006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C:\crucible\new\iamaman.jpg"/>
          <p:cNvPicPr/>
          <p:nvPr/>
        </p:nvPicPr>
        <p:blipFill>
          <a:blip r:embed="rId15"/>
          <a:stretch/>
        </p:blipFill>
        <p:spPr>
          <a:xfrm>
            <a:off x="1143000" y="982800"/>
            <a:ext cx="6858000" cy="4892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8" descr="C:\crucible\new\black2.jpg"/>
          <p:cNvPicPr/>
          <p:nvPr/>
        </p:nvPicPr>
        <p:blipFill>
          <a:blip r:embed="rId16"/>
          <a:stretch/>
        </p:blipFill>
        <p:spPr>
          <a:xfrm>
            <a:off x="1066680" y="914400"/>
            <a:ext cx="7086600" cy="5334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C:\crucible\today\roland3.jpg"/>
          <p:cNvPicPr/>
          <p:nvPr/>
        </p:nvPicPr>
        <p:blipFill>
          <a:blip r:embed="rId17"/>
          <a:stretch/>
        </p:blipFill>
        <p:spPr>
          <a:xfrm>
            <a:off x="1295280" y="915840"/>
            <a:ext cx="6629400" cy="5094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" descr="C:\crucible\today\black2.jpg"/>
          <p:cNvPicPr/>
          <p:nvPr/>
        </p:nvPicPr>
        <p:blipFill>
          <a:blip r:embed="rId18"/>
          <a:stretch/>
        </p:blipFill>
        <p:spPr>
          <a:xfrm>
            <a:off x="1219320" y="838080"/>
            <a:ext cx="6858000" cy="5181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1" descr="C:\crucible\today\black.jpg"/>
          <p:cNvPicPr/>
          <p:nvPr/>
        </p:nvPicPr>
        <p:blipFill>
          <a:blip r:embed="rId19"/>
          <a:stretch/>
        </p:blipFill>
        <p:spPr>
          <a:xfrm>
            <a:off x="2971800" y="304920"/>
            <a:ext cx="2743200" cy="914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2" descr="C:\crucible\logo.gif"/>
          <p:cNvPicPr/>
          <p:nvPr/>
        </p:nvPicPr>
        <p:blipFill>
          <a:blip r:embed="rId20"/>
          <a:stretch/>
        </p:blipFill>
        <p:spPr>
          <a:xfrm>
            <a:off x="685800" y="1755720"/>
            <a:ext cx="7772400" cy="31971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3"/>
          <p:cNvSpPr/>
          <p:nvPr/>
        </p:nvSpPr>
        <p:spPr>
          <a:xfrm>
            <a:off x="3653640" y="5638680"/>
            <a:ext cx="1887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Bell MT"/>
                <a:hlinkClick r:id="rId21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ort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3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649520" y="30492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Ladies and Gent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974960" y="1066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C:\crucible\logo.gif"/>
          <p:cNvPicPr/>
          <p:nvPr/>
        </p:nvPicPr>
        <p:blipFill>
          <a:blip r:embed="rId1"/>
          <a:stretch/>
        </p:blipFill>
        <p:spPr>
          <a:xfrm>
            <a:off x="914400" y="2286000"/>
            <a:ext cx="7086600" cy="25938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3116160" y="106668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to the story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8" descr="C:\crucible\today\black.jpg"/>
          <p:cNvPicPr/>
          <p:nvPr/>
        </p:nvPicPr>
        <p:blipFill>
          <a:blip r:embed="rId2"/>
          <a:stretch/>
        </p:blipFill>
        <p:spPr>
          <a:xfrm>
            <a:off x="2057400" y="0"/>
            <a:ext cx="2741760" cy="91440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ck1_c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304920"/>
            <a:ext cx="134874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It is the spring of 169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The small town of Salem, MA had been established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mere forty years earlier, and had yet to make  its mark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the rest of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However, while not all were immediately aware, 16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would be a year of ‘revolution’ in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.  No longer was everyone willing to adhere to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strict lifestyle</a:t>
            </a:r>
            <a:r>
              <a:rPr b="1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that had been set down by their forefa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.       While the town of Salem may have appeared to b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serene and</a:t>
            </a:r>
            <a:r>
              <a:rPr b="1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enjoyable place to live, it was about to experi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an event that would change the villagers’ lives for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.           Little did they know, though, that their story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still have a tremendous effect on us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rack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crucible\proctor2.jpg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54118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286956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ell MT"/>
              </a:rPr>
              <a:t>The one, the on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517200" y="6858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ell MT"/>
              </a:rPr>
              <a:t>John Pr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8" descr="C:\crucible\winona.jpg"/>
          <p:cNvPicPr/>
          <p:nvPr/>
        </p:nvPicPr>
        <p:blipFill>
          <a:blip r:embed="rId2"/>
          <a:stretch/>
        </p:blipFill>
        <p:spPr>
          <a:xfrm>
            <a:off x="380880" y="28195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C:\crucible\ELIZABETH2.JPG"/>
          <p:cNvPicPr/>
          <p:nvPr/>
        </p:nvPicPr>
        <p:blipFill>
          <a:blip r:embed="rId3"/>
          <a:stretch/>
        </p:blipFill>
        <p:spPr>
          <a:xfrm>
            <a:off x="7362720" y="2133720"/>
            <a:ext cx="178128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lkmagic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" nodeType="afterEffect" fill="hold" presetClass="entr" presetID="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C:\crucible\blank.jpg"/>
          <p:cNvPicPr/>
          <p:nvPr/>
        </p:nvPicPr>
        <p:blipFill>
          <a:blip r:embed="rId1"/>
          <a:stretch/>
        </p:blipFill>
        <p:spPr>
          <a:xfrm>
            <a:off x="773280" y="920880"/>
            <a:ext cx="7596000" cy="5016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crucible\judge1.jpg"/>
          <p:cNvPicPr/>
          <p:nvPr/>
        </p:nvPicPr>
        <p:blipFill>
          <a:blip r:embed="rId2"/>
          <a:stretch/>
        </p:blipFill>
        <p:spPr>
          <a:xfrm>
            <a:off x="1295280" y="1981080"/>
            <a:ext cx="2298960" cy="3988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C:\crucible\judge3.jpg"/>
          <p:cNvPicPr/>
          <p:nvPr/>
        </p:nvPicPr>
        <p:blipFill>
          <a:blip r:embed="rId3"/>
          <a:stretch/>
        </p:blipFill>
        <p:spPr>
          <a:xfrm>
            <a:off x="5867280" y="1676520"/>
            <a:ext cx="2082960" cy="43178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crucible\judge2.jpg"/>
          <p:cNvPicPr/>
          <p:nvPr/>
        </p:nvPicPr>
        <p:blipFill>
          <a:blip r:embed="rId4"/>
          <a:stretch/>
        </p:blipFill>
        <p:spPr>
          <a:xfrm>
            <a:off x="3352680" y="1066680"/>
            <a:ext cx="2565360" cy="4927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1988640" y="2286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The Crucible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9" descr="C:\crucible\horror.jpg"/>
          <p:cNvPicPr/>
          <p:nvPr/>
        </p:nvPicPr>
        <p:blipFill>
          <a:blip r:embed="rId5"/>
          <a:stretch/>
        </p:blipFill>
        <p:spPr>
          <a:xfrm>
            <a:off x="914400" y="1066680"/>
            <a:ext cx="6986520" cy="46483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"/>
          <p:cNvSpPr/>
          <p:nvPr/>
        </p:nvSpPr>
        <p:spPr>
          <a:xfrm>
            <a:off x="2327040" y="6476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What did they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12" descr="C:\crucible\horror.jpg"/>
          <p:cNvPicPr/>
          <p:nvPr/>
        </p:nvPicPr>
        <p:blipFill>
          <a:blip r:embed="rId6"/>
          <a:stretch/>
        </p:blipFill>
        <p:spPr>
          <a:xfrm>
            <a:off x="914400" y="1066680"/>
            <a:ext cx="6986520" cy="46483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C:\crucible\abagail1.jpg"/>
          <p:cNvPicPr/>
          <p:nvPr/>
        </p:nvPicPr>
        <p:blipFill>
          <a:blip r:embed="rId1"/>
          <a:stretch/>
        </p:blipFill>
        <p:spPr>
          <a:xfrm>
            <a:off x="3962520" y="533520"/>
            <a:ext cx="4749840" cy="59306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78960" y="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Abig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C:\crucible\abagail2.jpg"/>
          <p:cNvPicPr/>
          <p:nvPr/>
        </p:nvPicPr>
        <p:blipFill>
          <a:blip r:embed="rId2"/>
          <a:stretch/>
        </p:blipFill>
        <p:spPr>
          <a:xfrm>
            <a:off x="228600" y="685800"/>
            <a:ext cx="3733920" cy="5791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LDTH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crucible\tituba.jpg"/>
          <p:cNvPicPr/>
          <p:nvPr/>
        </p:nvPicPr>
        <p:blipFill>
          <a:blip r:embed="rId1"/>
          <a:stretch/>
        </p:blipFill>
        <p:spPr>
          <a:xfrm>
            <a:off x="785880" y="906480"/>
            <a:ext cx="7570800" cy="50436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3616200" y="2109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Tit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NC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C:\crucible\ELIZABETH2.JPG"/>
          <p:cNvPicPr/>
          <p:nvPr/>
        </p:nvPicPr>
        <p:blipFill>
          <a:blip r:embed="rId1"/>
          <a:stretch/>
        </p:blipFill>
        <p:spPr>
          <a:xfrm>
            <a:off x="2158920" y="990720"/>
            <a:ext cx="4826160" cy="57402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2415240" y="2286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Elizabeth Pro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sp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crucible\proctor3.jpg"/>
          <p:cNvPicPr/>
          <p:nvPr/>
        </p:nvPicPr>
        <p:blipFill>
          <a:blip r:embed="rId1"/>
          <a:stretch/>
        </p:blipFill>
        <p:spPr>
          <a:xfrm>
            <a:off x="838080" y="914400"/>
            <a:ext cx="7596360" cy="5043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2175840" y="2286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John and Elizabe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6:21:35Z</dcterms:created>
  <dc:creator>Jason Pinto</dc:creator>
  <dc:description/>
  <dc:language>en-US</dc:language>
  <cp:lastModifiedBy>Teacher</cp:lastModifiedBy>
  <dcterms:modified xsi:type="dcterms:W3CDTF">2009-09-29T17:02:58Z</dcterms:modified>
  <cp:revision>145</cp:revision>
  <dc:subject/>
  <dc:title>No Slide Title</dc:title>
</cp:coreProperties>
</file>